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9D1-0809-4E21-827C-1C159A8B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FFD-6A28-4151-98AA-4D68F9D1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F3D-EB7E-408C-AC9B-22DB4C61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CC7-0568-421C-8533-A949D560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9C8-0913-444C-B002-6BF54073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02E-4C6A-4D8A-B25C-04030A80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B34-4CE7-4B09-9EEC-03C3B232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3A6-3563-4086-B408-AA2EE5D7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27D-10FE-4292-BA2F-0333468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254-5E9F-4B5B-B897-152A626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7F0-62AD-434D-8A5D-8D6CF769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290-8F05-41CC-A993-C9F9AD3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096E-CA1D-47BB-86FA-4E7A4AA7C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277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ALOGEN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Luis &amp;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68360" y="1628640"/>
            <a:ext cx="45720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ine is a nonme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ine is a 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ne is a non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is a nonme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atine is a metall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alogens are very reactive but               fluorine is the most re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with group #1 because it has 1 valence electron to 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Halo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ogens are found in the environment only in compounds or as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is used in lamps and in ink pi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ine is used by cleaning drink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NE main uses are in producing flame retard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nteresting fact is that so many things are made and created by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 on the Periodic of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ocated in group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15:49Z</dcterms:created>
  <dc:creator>tatumadmin</dc:creator>
  <dc:description/>
  <dc:language>en-US</dc:language>
  <cp:lastModifiedBy>tatumadmin</cp:lastModifiedBy>
  <dcterms:modified xsi:type="dcterms:W3CDTF">2009-12-04T21:18:46Z</dcterms:modified>
  <cp:revision>3</cp:revision>
  <dc:subject/>
  <dc:title>HALOGENS</dc:title>
</cp:coreProperties>
</file>